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BA7-E183-47DE-8B1D-BE5553FA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767-68B1-4D67-A026-8E091B6B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D73-4280-4102-8D52-592DA306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565-5A1A-410C-863C-48A90BF1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020-04CF-4D6F-95E4-3C63EFCC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2E0-90F2-4546-9326-DDF2B1D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6AE-CD7D-466A-8BC5-1FF46704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968-0950-43FE-B309-6A73CC24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C98-A7A9-4E7F-9A73-0C8192A0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89B-2DAA-4C5D-B6B7-C8E6639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7E8-8FF4-4606-8750-3F7E116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32A-8ECD-4297-A85F-BDC5CE12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BF56-2CD7-433C-BDA8-23531E167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9800" y="262080"/>
            <a:ext cx="532440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87640" y="105264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1413000"/>
            <a:ext cx="1151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557360"/>
            <a:ext cx="37292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Zentih 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Bop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last building on your righ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Zandvoortstraat 27 C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2800 Mech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el 015 20 40 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ax 015 20 40 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38560" y="765000"/>
            <a:ext cx="14414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0:17:44Z</dcterms:created>
  <dc:creator>.</dc:creator>
  <dc:description/>
  <dc:language>en-US</dc:language>
  <cp:lastModifiedBy>.</cp:lastModifiedBy>
  <dcterms:modified xsi:type="dcterms:W3CDTF">2005-09-26T09:10:51Z</dcterms:modified>
  <cp:revision>2</cp:revision>
  <dc:subject/>
  <dc:title>Slide 1</dc:title>
</cp:coreProperties>
</file>